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4B47-4F8E-4E68-ABE1-A89BEA73D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4633-8335-4F75-9647-EC5409E7E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92E3-8CE4-4235-B179-7ECEC0CADB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9E30-4445-412E-A47B-9426445C8C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848C-C1C8-46D9-9888-4BFEF5CDC8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C3AD-201C-436C-A325-4E53289EC3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684-30A2-4422-8BDB-4DE730EB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BD3-BBDA-46BB-81B6-B4A971CF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778-24C7-41D4-BA7A-A7B5D1CD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0B4-53F8-4AEC-BA4B-7D230D07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1B9-8D0D-4910-98C2-36778453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156-CAC4-464E-BF0F-CF20C56C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C32-3796-49B6-AA80-ACD91F2B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ABD-2654-4ACD-92C5-FEDEA42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82E-3A31-4A3D-83A9-BF65D4CB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FDB-5232-4821-980F-FEF0216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662-DA51-43AD-AEB0-8C3CD60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1FE-D788-465B-B327-2B6348F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EBCE-A2B2-42C1-9C4C-B97CC609CF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sing Choral Reading and Cooperative Groups to Promote Language Learning for ELL Stud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4419360"/>
            <a:ext cx="426708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d. 702.2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eminar in Applied Theory and Research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usan Ch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Metho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a11ff"/>
                </a:solidFill>
                <a:uFillTx/>
                <a:latin typeface="Comic Sans MS"/>
              </a:rPr>
              <a:t>Participa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Total of six 1st grader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One classroom- 3 native Arabic speakers &amp; 3 native Spanish speaker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Lower socio-economic clas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Public elementary school located in Brooklyn, N.Y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a11ff"/>
                </a:solidFill>
                <a:uFillTx/>
                <a:latin typeface="Comic Sans MS"/>
              </a:rPr>
              <a:t>Instru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Parent Surveys and Questionnaires: English, Spanish and Arab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Parent Involvement- Rating S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.g. - Read to chil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Encourage child to do well in schoo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2.      Demographics (Part 1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.g. - What language(s) are spoken in your household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3.      Demographics (Part 2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.g. - Employment statu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 Level of educat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a11ff"/>
                </a:solidFill>
                <a:uFillTx/>
                <a:latin typeface="Comic Sans MS"/>
              </a:rPr>
              <a:t>Instru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104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20104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20104"/>
                </a:solidFill>
                <a:latin typeface="Comic Sans MS"/>
              </a:rPr>
              <a:t>    </a:t>
            </a:r>
            <a:r>
              <a:rPr b="0" lang="en-US" sz="2400" spc="-1" strike="noStrike" u="sng">
                <a:solidFill>
                  <a:srgbClr val="020104"/>
                </a:solidFill>
                <a:uFillTx/>
                <a:latin typeface="Comic Sans MS"/>
              </a:rPr>
              <a:t>Student Surveys and Questionnai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2010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Reading Attitu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.g.-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w do you feel when you read a book in school during free time?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Times New Roman"/>
              </a:rPr>
              <a:t>2. </a:t>
            </a: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Writing Attitu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.g. - How do you feel about writing in school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6161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6161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61616"/>
                </a:solidFill>
                <a:latin typeface="Comic Sans MS"/>
              </a:rPr>
              <a:t>  </a:t>
            </a:r>
            <a:r>
              <a:rPr b="0" lang="en-US" sz="2400" spc="-1" strike="noStrike" u="sng">
                <a:solidFill>
                  <a:srgbClr val="161616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161616"/>
                </a:solidFill>
                <a:uFillTx/>
                <a:latin typeface="Comic Sans MS"/>
              </a:rPr>
              <a:t>Principal Content Fo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Referenc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rmon, J. &amp; Morris, L. (2008). Integrated assessment for ell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cience and Children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5(8), 49-53. Retrieved November 10, 2009, from ERIC 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base. (EJ790093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att, E. (2008). Teachers’ perceptions of ell education: potential solutions to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vercome the greatest challenge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Multicultural Education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trieved October 26, 2009, from ERIC database. (EJ793903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loome, D. &amp; Christian, B. (2004). Learning to read is who you are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eading and Writing Quarterly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November 2, 2009, from ERIC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base. (EJ68247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rice, A., O’Hanlon, L. &amp; Roseberry-McKibbin, C. (2005). Serving english language learners in public school settings: a national survey.    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anguage, Speech, and Hearing Services in Schools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October 16, 2009, from ERIC database. (EJ741270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amot, A. &amp; O’Malley, J. (1996). The cognitive academic language learning approach: A model for linguistically diverse classroom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he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lementary School Journa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96(3), 259-273. Retrieved September 28 ,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niels, M., Ehlers-Zavala, F., Lenski, S. &amp; Sun-Irminger, X. (2006). Assessing English-language learners in mainstream classroom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eading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eacher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November 4, 2009, from ERIC database. (EJ749427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rucker, J. M. (2003, September). What reading teachers should know about ESL 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he Reading Teach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, 57 (1), 22-29. Retrieved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ptember, 2009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rnst-Slavit, G., Maloney, C. &amp; Moore, M. (2002). Teaching English and literature to ESL student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Adolescent &amp; Adult Literac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3(2), 116- 128. Retrieved September 29, 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5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0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vans, S. L. &amp; Hite, E. C. (2006). Mainstreaming first-grade teachers’ understanding of strategies for accommodating the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eeds of English language 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eacher Education Quarter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, 89-110. Retrieved October 5, 2009 from  EBSCO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erguson, S. &amp; Poore, M. (2008). Methodological variables in choral reading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linical Linguistic &amp; Phonetic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22(1), 132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oi:10.1080/02699200701601971. Retrieved September 29, 2009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ernsten, L. (2008). Writer identity and esl 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Adolescent &amp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Adult Literacy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2(1), 44-52. Retrieved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vember 2, 2009, from ERIC database. (EJ81708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gueredo, L. (2006). Using the known to chart the unknown: a review of first-guage influence on the development of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nglish-as-a-second- language spelling skill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Reading and Writing: An Interdisciplinary Journal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9(8), 873-905.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November 2, 2009, from ERIC database. (EJ748752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lores, B. &amp; Verdugo, R. (2007). English-language learners: key issue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Education and Urban Society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trieved October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8, 2009, from ERIC database. (EJ74949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here, G., Sommerness, J. &amp; York-Barr, J. (2007). Collaborative teaching to increase ell student learning: a three-year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rban elementary case study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Education for Students Placed at Risk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October 29, 2009, from ERIC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base. (EJ780679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arper, C. &amp; Jong, E. (2004). Misconceptions about teaching English-language 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Adolescent &amp; Adult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Literacy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8(2), 152. Retrieved September 30, 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540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Jongejan,W., Siegel, L. &amp; Verhoeven, L. (2007). Predicators of reading and spelling abilities in first- and second-language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arner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Educational Psychology.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November 4, 2009, from ERIC database. (EJ781287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im, Y. (2008). The effects of integrated language-based instruction in elementary esl learning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Modern Language Journal.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trieved October 23,2009, from ERIC database. (EJ808311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u, S. (1997, March). The dilemmas of english as second language children learning to read in an all-english mainstream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assroom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American Educational Research Association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trieved October 8, 2009 from ERIC database. (EJ48373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, X. &amp; Zhang, M. (2004). Why mei still cannot read and what can be done.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Journal of Adolescent and Adult Literacy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8(2), 92-101. Retrieved November 8, 2009, from ERIC database. (EJ684276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pka, O. &amp; Siegel, S. (2007). The development of reading skills in children with English as a second language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cientific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Studies of Reading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(2), 105-131. Retrieved November 10, 2009, from ERIC database. (EJ772404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cCauley, D. &amp; McCauley, J. (1992). Using choral reading to promote language learning for ESL students.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he Reading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eacher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45(7) 526-533. Retrieved October 21, 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0320"/>
            <a:ext cx="7772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1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Mohr, E. &amp; Mohr, K. (2007). Extending english-language learners’ classroom interactions using the response protocol.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The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Reading Teacher,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60(5), 440-450. Retrieved September 28, 2009, from JSTOR database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Spinelli, C. (2008). Addressing the issue of cultural and linguistic diversity and   assessment: informal evaluation measures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for English language learners.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Reading &amp; Writing Quarterly.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Retrieved October 29, 2009, from ERIC database.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(EJ781942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Tellez, K. &amp; Waxman, H. (2002). Research synthesis on effective teaching practices for english language learners.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Publication Series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. Retrieved September 24, 2009, from ERIC database. (EJ839028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          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Toohey, K. (2007). Are the lights coming on? how can we tell? English language learners and literacy assessment.  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                     </a:t>
            </a:r>
            <a:r>
              <a:rPr b="0" i="1" lang="en-US" sz="1100" spc="-1" strike="noStrike">
                <a:solidFill>
                  <a:srgbClr val="020104"/>
                </a:solidFill>
                <a:latin typeface="Times New Roman"/>
              </a:rPr>
              <a:t>Canadian Modern Language Review. </a:t>
            </a:r>
            <a:r>
              <a:rPr b="0" lang="en-US" sz="1100" spc="-1" strike="noStrike">
                <a:solidFill>
                  <a:srgbClr val="020104"/>
                </a:solidFill>
                <a:latin typeface="Times New Roman"/>
              </a:rPr>
              <a:t>Retrieved October 28, 2009, from ERIC database. (EJ790393)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3a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3aff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3aff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Statement of the Proble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Statement of the Hypothes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Review of Literature and Related Literat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3aff"/>
                </a:solidFill>
                <a:latin typeface="Comic Sans MS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Participan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731"/>
                </a:solidFill>
                <a:latin typeface="Comic Sans MS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Statement of the Proble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ducators in mainstream classrooms often lack professional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aining to teach students who come from different linguistic, cultural, and educational backgrounds. Many educators find ELLs remain unengaged or participate less than their English-fluent peers, which may result in lower achievement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Statement of the Hypothesi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104"/>
                </a:solidFill>
                <a:latin typeface="Comic Sans MS"/>
              </a:rPr>
              <a:t>HR</a:t>
            </a:r>
            <a:r>
              <a:rPr b="0" lang="en-US" sz="4000" spc="-1" strike="noStrike" baseline="-25000">
                <a:solidFill>
                  <a:srgbClr val="020104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20104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a six-week period, integrating choral reading with basic literacy skill instruction will result in an increase in the engagement and comprehension of six first-grade English-language learners (ELLs) of P.S. X, from N.Y.C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formance Gap between ELL and non-E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ackground about ELL population/ misplace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acher Preparation: Educators Not adequately prepa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Review of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1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Times New Roman"/>
              </a:rPr>
              <a:t>       </a:t>
            </a:r>
            <a:r>
              <a:rPr b="0" lang="en-US" sz="2800" spc="-1" strike="noStrike" u="sng">
                <a:solidFill>
                  <a:srgbClr val="fff731"/>
                </a:solidFill>
                <a:uFillTx/>
                <a:latin typeface="Times New Roman"/>
              </a:rPr>
              <a:t>Instructional Strateg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a11ff"/>
                </a:solidFill>
                <a:uFillTx/>
                <a:latin typeface="Times New Roman"/>
              </a:rPr>
              <a:t>Informal-authentic Assessment Measu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104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erformance-based assess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Oral performance assessmen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ortfolio Assessme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enefits of Choral Reading with Language Acqui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     </a:t>
            </a:r>
            <a:r>
              <a:rPr b="0" lang="en-US" sz="2200" spc="-1" strike="noStrike" u="sng">
                <a:solidFill>
                  <a:srgbClr val="1a11ff"/>
                </a:solidFill>
                <a:uFillTx/>
                <a:latin typeface="Comic Sans MS"/>
              </a:rPr>
              <a:t>Low-anxiety environment </a:t>
            </a:r>
            <a:r>
              <a:rPr b="0" lang="en-US" sz="1800" spc="-1" strike="noStrike" u="sng">
                <a:solidFill>
                  <a:srgbClr val="1a11ff"/>
                </a:solidFill>
                <a:uFillTx/>
                <a:latin typeface="Comic Sans MS"/>
              </a:rPr>
              <a:t>(Confidenc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1ff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1a11ff"/>
                </a:solidFill>
                <a:latin typeface="Comic Sans MS"/>
              </a:rPr>
              <a:t>*Social Emotional Interaction and Culturally Appropriate context*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O’Malley &amp; Chamot (1996)- Social-cognitive theory of motivatio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 Bandura (1993) - Social learning theory (Self-efficacy)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 Schumann (1994) - Acculturation Mode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enefits of Choral Reading with Language Acqui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      </a:t>
            </a:r>
            <a:r>
              <a:rPr b="0" lang="en-US" sz="2400" spc="-1" strike="noStrike" u="sng">
                <a:solidFill>
                  <a:srgbClr val="1a11ff"/>
                </a:solidFill>
                <a:uFillTx/>
                <a:latin typeface="Comic Sans MS"/>
              </a:rPr>
              <a:t>Repeated Practi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1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1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omsky (1976):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mprove reading rate and prosodic reading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LaBerge and Samuels’s (1976): Theory of automatic information processing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 Krashen (1982):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“Repetition is especially necessary for second language learners to acquire their new languag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enefits of Choral Reading with Language Acqui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 u="sng">
                <a:solidFill>
                  <a:srgbClr val="1a11ff"/>
                </a:solidFill>
                <a:uFillTx/>
                <a:latin typeface="Comic Sans MS"/>
              </a:rPr>
              <a:t>Comprehensible Inpu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Krashen (1982): “The speaker casts a net of structure around current level”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Vygotsky (1978): Notion of a zone proximal development 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ynamic Assessment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a11ff"/>
                </a:solidFill>
                <a:uFillTx/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1a11ff"/>
                </a:solidFill>
                <a:uFillTx/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1a11ff"/>
                </a:solidFill>
                <a:uFillTx/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1a11ff"/>
                </a:solidFill>
                <a:latin typeface="Comic Sans MS"/>
              </a:rPr>
              <a:t>              </a:t>
            </a:r>
            <a:r>
              <a:rPr b="0" lang="en-US" sz="2400" spc="-1" strike="noStrike" u="sng">
                <a:solidFill>
                  <a:srgbClr val="1a11ff"/>
                </a:solidFill>
                <a:uFillTx/>
                <a:latin typeface="Comic Sans MS"/>
              </a:rPr>
              <a:t>Drama</a:t>
            </a:r>
            <a:r>
              <a:rPr b="0" lang="en-US" sz="2800" spc="-1" strike="noStrike" u="sng">
                <a:solidFill>
                  <a:srgbClr val="1a11ff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Savignon (1983):</a:t>
            </a:r>
            <a:r>
              <a:rPr b="0" lang="en-US" sz="1600" spc="-1" strike="noStrike">
                <a:solidFill>
                  <a:srgbClr val="1a11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“Drama is a natural component of ESL Learning”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Vygotsky (1978):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lationship of drama and literac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23:39:46Z</dcterms:created>
  <dc:creator>susan chan</dc:creator>
  <dc:description/>
  <dc:language>en-US</dc:language>
  <cp:lastModifiedBy>susan chan</cp:lastModifiedBy>
  <cp:lastPrinted>2009-12-03T21:09:57Z</cp:lastPrinted>
  <dcterms:modified xsi:type="dcterms:W3CDTF">2009-12-20T23:28:23Z</dcterms:modified>
  <cp:revision>34</cp:revision>
  <dc:subject/>
  <dc:title>PowerPoint Presentation</dc:title>
</cp:coreProperties>
</file>